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98D-0E72-465E-BCBE-0B97139D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704-41A4-49DB-BFC3-5E84539A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893-BA37-41D1-83CE-7E7253DA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CB0-62AC-4297-8A3A-DF7FF544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4630A-10F4-488C-8F8D-B4376A9C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DF151-DC8F-4A8B-BF4E-F2CD1BEF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4BFBE-5579-4D22-AA76-E3581C76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474E6-9D8F-4D58-A0C7-5F9DDC4E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4EFB7-BC39-4061-A83B-D5AEAAEC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9E11C-CA8D-43E8-B176-91291B47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C8570-C9B0-4C82-96D8-9F0DB6C0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90A-F1B4-424E-A508-DE0D69B8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A2633-DDC1-4859-B3D5-54A27CAF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8B4BD-9BB1-4D46-85EC-46A50D64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829D3-7676-4CCE-BBDF-8CCE87A3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50C6D-8F12-4F10-8E3B-924E9159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944FE-B25D-48F6-B9B9-8110763D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2FF-A7CA-4F6E-A2C0-E9C77006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43A-BBEA-4007-B2B9-86BE2E8E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743-84A9-4156-B4ED-0936005B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415-92A4-44F2-BA22-4171B2D9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CCF-9C64-44A7-A0E3-8CF040A1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8EA-D64D-4CA3-993A-92728801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19B-AF5A-49FE-9D60-409E4000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0D10-A920-4AA8-AC68-A90B0AE4CC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B771-D25F-41B0-B7E0-6B2BDD33E9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2608200" cy="2629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5 Themes of Geography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Caribbea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715000" y="3200400"/>
            <a:ext cx="3129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eraction Between Humans and The Environmen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ore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land for farming, ranching, and building hou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m climate - air conditioners are used in buildings to c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igation is used to bring water to dry land for farm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groves swamps cleared out for beach space for increased tour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eraction Between Humans and The Environmen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 sugar cane to make large 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ffee in mountains (Greater Antilles) because it grows well t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ing bananas in tropical regions for 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s in flood areas are built on stilts to keep above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wood and charcoal used for energy because of lack of energy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ries attract tourists to already nice climates with cruise ships, resorts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g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mland Fo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ibbean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llean Is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r Anti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er Antil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Savan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grove Swa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28288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g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coloni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T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ba’s Commun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ant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g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TZ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shore Ba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I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rist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Trade Area of the Amer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g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o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-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Caribbean Sea, in between North and South America, and East and North East of Central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ct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rth to 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 to 6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ysical 1/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for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ibbean S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llean Is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er Antil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de up of Cuba, Jamaica, Hispaniola (Haiti and Dominican republic), and Puerto Ri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er Antil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de up of small islands from the virgin islands to Trin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Savan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grove Swa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2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m year-round because of proximity to 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undant rainfall- 80+ in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fferent amounts of rainfall due to Inter-Tropical Convergency Zon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rrica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al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ore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astal pol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mland Fores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astal zone of the ma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ic – Rhythmic b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uage – mostly European languages, (Spanish, French, English, and Dutch dominate other language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olization – Blending of cultures like African, Euporean, Amerin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gion – Voodoo in Haiti, Cuba, and Ja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tation – mono-crop p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igration – when Asians immigrated, indentured labor was made so there would be no labor short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oons and African diaspora – Africans were take nfrom their homes and forced to be slav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V/AIDS – There are about 3x the amount of people in the Caribbean with HIV/AIDS than in the U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rtility Decline – Cuba now allows abortion and birth cont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gration – Caribbean diaspora – people from here move all around the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ular Migration – A temporary move where individuals move for work overs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n migration – Moving to a certain dest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ies – Mechanization of agriculture, offshore industirialization, rapid growth population, (rural-to-urban mig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ribbean people use boats to travel from island to isl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xis are also used to move around in the c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planes to fly in and out of the Caribbe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people emigrated to other Caribbean islands, North America, and Europe because of the region’s limited economic opportun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ibbean Diaspora- the economic flight of Caribbean peoples across the glo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ave T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or related mi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ur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away sl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in Mi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ular Mi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8320" y="3886200"/>
            <a:ext cx="23810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ibbean languages have origins in African langu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an cultures are merged with many Caribbean festivals and original cultures such as the Ciboney, the Taino, and the Cari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blends with European, African, Asian, and Middle Eastern influe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olization- African and European cultures blended in the Caribb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ation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ian Immi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- African colo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5:48:58Z</dcterms:created>
  <dc:creator>NPSD</dc:creator>
  <dc:description/>
  <dc:language>en-US</dc:language>
  <cp:lastModifiedBy>NPSD</cp:lastModifiedBy>
  <dcterms:modified xsi:type="dcterms:W3CDTF">2009-12-18T15:58:04Z</dcterms:modified>
  <cp:revision>8</cp:revision>
  <dc:subject/>
  <dc:title>5 Themes of Geography The Caribbean</dc:title>
</cp:coreProperties>
</file>